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58C8-D7E1-4C59-845D-9FEAF30CB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224-9294-45FD-BFC3-B12923E5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6F4-134D-4277-8933-77792CD8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717-EA0F-4798-AE49-96F4F747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42A-7B11-422E-A77D-AE702D5C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80AC-E2FF-452D-919B-C1BE7B51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E0C8-6C1B-4EEB-B938-AC9B91B9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66BF-EC4E-4D09-A483-4F6C6680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14C1-D941-4192-9550-C82F92A9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F132-713B-4BAD-B63B-D9D75CE5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A4DE-B048-442C-BDB2-396CE47A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517B-9431-4D0A-825B-96CB3D29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FF7-44BC-4969-9698-C3E387B7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7F99-EC93-411D-9D91-7F202A4F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B64D-FC97-41BC-8D96-5A010FC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CC80-35B9-4647-AA8E-011C7864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65CD-E285-4BEB-AAD9-72BCE08B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A412-9966-46F6-84D5-F8E8E431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5DA-0C15-45A4-B8BB-3306C5BE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DBF-883C-4CAF-A9F0-40CC6C87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F45-EA42-4773-A701-FF52D3E5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8FB-E979-4304-9778-38FD62BE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B17-3F83-47D8-A318-5F4F8571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867-1F65-436F-9294-7EAFF888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E7F-2750-4C34-8FA5-D190905D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5058-70E2-45EE-83B7-04531E91799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21EE-36F2-4A6E-8710-12A701234A3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lkonline.net/images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lkonline.net/images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lkonline.net/video-i-have-a-dream-speech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lkonline.net/video-martin-luther-king-last-speech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hara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rtin Luther King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Quot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Martin Luther King Picture Galle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57200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genuine leader is not a searcher for consensus not a model. A lie can’t liv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man can not ride your back unless it’s bent. A man who won’t die for something is not fit to liv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Martin Luther King Picture Galle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5156280"/>
            <a:ext cx="2552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nation or civilization that continues to produce soft-minded men purchases its own spiritual  death on the installment pla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Watch the Full 16 min video of Martin Luther King's famous I Have a Dream Speach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4343400"/>
            <a:ext cx="2361960" cy="20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ce              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right delayed is a right deni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Martin Luther King's Final Speech - I've Been to the Mountainto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276720"/>
            <a:ext cx="314316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progress is precarious, and the solution of one problem brings us face to face with another proble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Photo: Dr. Martin Luther King, Jr. giving a speech"/>
          <p:cNvPicPr/>
          <p:nvPr/>
        </p:nvPicPr>
        <p:blipFill>
          <a:blip r:embed="rId1"/>
          <a:stretch/>
        </p:blipFill>
        <p:spPr>
          <a:xfrm>
            <a:off x="4952880" y="4205160"/>
            <a:ext cx="36576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riot is the language of the unhear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" descr="Photo: Dr. Martin Luther King, Jr. getting Nobel Peace Prize"/>
          <p:cNvPicPr/>
          <p:nvPr/>
        </p:nvPicPr>
        <p:blipFill>
          <a:blip r:embed="rId1"/>
          <a:stretch/>
        </p:blipFill>
        <p:spPr>
          <a:xfrm>
            <a:off x="2286000" y="3124080"/>
            <a:ext cx="4476600" cy="28576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Photo: Dr. Martin Luther King, Jr. getting Nobel Peace Prize"/>
          <p:cNvPicPr/>
          <p:nvPr/>
        </p:nvPicPr>
        <p:blipFill>
          <a:blip r:embed="rId2"/>
          <a:stretch/>
        </p:blipFill>
        <p:spPr>
          <a:xfrm>
            <a:off x="2286000" y="3276720"/>
            <a:ext cx="44766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11:50Z</dcterms:created>
  <dc:creator>Vanessa Collier</dc:creator>
  <dc:description/>
  <dc:language>en-US</dc:language>
  <cp:lastModifiedBy>Joni George</cp:lastModifiedBy>
  <dcterms:modified xsi:type="dcterms:W3CDTF">2010-04-13T21:05:46Z</dcterms:modified>
  <cp:revision>3</cp:revision>
  <dc:subject/>
  <dc:title>Dharan</dc:title>
</cp:coreProperties>
</file>